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F59-0F97-4D4F-90CC-3AECF99F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BD2-6B79-48F1-A7F5-D5941058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1F7-48DC-47C3-BA50-7E60774E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480-BEEB-4524-9031-A21EB265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6D33-05B4-41B1-89AB-A3A3C8FE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C218-5190-4F54-B243-E903660F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E051-B191-4651-AFED-56C77EC3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9EB0-CB46-4BB7-BF45-D025DF9C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1BE6-D9A3-40A7-A35D-B61C1D73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ECCF-6BBB-4409-9D9B-82F93972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19C0-A37D-48DA-877D-5D1005FE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E4D-8560-4913-9B37-B30CA806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7226-2D05-4906-AC7D-89C0DAB3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1C8E-9C73-454A-9296-48217F97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616F-B549-44C0-982A-D3EEB736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B5D6-80B0-49B6-B4BA-AF1BA567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77B2-6169-4A75-8F50-73367F50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C76-A4AF-43C0-98F1-1BF6467C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0CE-7307-4501-9303-2C6BF772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723-0F52-4CBF-9EC7-901C8C38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8A0-01C4-4C02-9C05-38724A65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894A-B84C-4CE2-BCCF-EF01F4F9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513-8249-4BFC-82A4-B676BF69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E3D-496D-4479-B205-86E9ECD8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236D-8A88-460A-AECE-FE85371FC2D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C288-8108-497C-AA35-1D08AF1B3A0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MA 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ADVERBIO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PREPOSICIONE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CONJUN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 ADVERB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abra invar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ica una circunstancia del verb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ede complementar a otro adverbio o a un adjetiv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núcleo de un sintagma adverb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dos o más palabras funcionan de adverbio son LOCUCIONES ADVERB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CLASES </a:t>
            </a:r>
            <a:br>
              <a:rPr sz="26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DE ADVERBIOS  Y LOCUCIONES ADVERBIALES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graphicFrame>
        <p:nvGraphicFramePr>
          <p:cNvPr id="93" name=""/>
          <p:cNvGraphicFramePr/>
          <p:nvPr/>
        </p:nvGraphicFramePr>
        <p:xfrm>
          <a:off x="685800" y="1573200"/>
          <a:ext cx="7772400" cy="4867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erb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uciones adverb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g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quí, allí, ahí, allá, acá, arriba, abajo, cerca, lejos, delante, detrás, encima, debajo, enfrente, atrás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final, a la cabeza, a la derecha, a la izquierda, al otro lad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s, después, pronto, tarde, temprano, todavía, aún, ya, ayer, hoy, mañana, siempre, nunca, jamás, próximamente, prontamente, anoche, enseguida, ahora, mientras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repente, de pronto, a menudo, al amanecer, al anochecer, en un periquete, con frecuencia, de tanto en tanto, a última hora, de vez en cuando, por la noche, por la mañana, por la tard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en, mal, regular, despacio, deprisa, así, aprisa, como, adrede, peor, mejor, fielmente, estupendamente, fácil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abiendas, a tontas y a locas, a oscuras, sin más ni más, en resumen, a la buena de Dios, a ciegas, a la chita callando, de este modo, a las buenas, a las malas, por las buenas, por las malas, a manos llenas, de alguna manera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co, mucho, bastante, más, menos, algo, demasiado, casi, sólo, solamente, tan, tanto, todo, nada, aproximad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menos, con todo, más o menos, todo lo más, como máximo, como mínim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irm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í, también, cierto, ciertamente, efectivamente, claro, verdader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de luego, en verdad, en efecto, sin duda, sin ninguna duda, en realidad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, jamás, nunca, tampoc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ninguna manera, ni por ésas, ni mucho menos, ni por asom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zá, quizás, acaso, probablemente, posiblemente, segur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l vez, a lo mejor, puede qu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0" y="580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ADVERBIO/ ADJETIVO </a:t>
            </a:r>
            <a:br>
              <a:rPr sz="5100"/>
            </a:b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verbios en –mente, derivados de un adjetivo calificativ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Libre        libre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m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jetivos calificativos convertidos en adverb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Habla </a:t>
            </a: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al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verbios de cantidad iguales a adjetivos determinativos o pronombres indefin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Lo siento </a:t>
            </a: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much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33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13:31Z</dcterms:created>
  <dc:creator>AUDIOLEASK</dc:creator>
  <dc:description/>
  <dc:language>en-US</dc:language>
  <cp:lastModifiedBy>AUDIOLEASK</cp:lastModifiedBy>
  <dcterms:modified xsi:type="dcterms:W3CDTF">2014-02-20T21:45:46Z</dcterms:modified>
  <cp:revision>4</cp:revision>
  <dc:subject/>
  <dc:title>TEMA 7</dc:title>
</cp:coreProperties>
</file>